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FB2-BEA1-4D01-B4C0-49AB2A8B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1CF-5469-4687-A8AF-F0A47C0D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EE567-2009-44E1-A0D4-BF5EEE78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6876F-7656-4E19-A2FE-EB1023CD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E9738-6944-492F-933C-7241A798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D8222-0408-4B35-A5F5-F547A042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EA663-7617-4832-A757-A8278653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8458B-8187-42A8-9711-6DB4FE72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1836E-7CC3-4653-917C-0DEE413A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DC96E-5608-4E7E-8571-642615E5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A1565-D356-4EBF-B049-3A714E0E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8B09F-FABC-4875-BE9C-5B00A8B9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666-D327-4543-A488-60A65738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63CFC-AD79-4282-A22C-616CBAB6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EFF0D-5273-4618-A6B4-4F2871E9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68A2A-66B4-40D9-A990-3E39ED74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558B7-F6EA-4D9C-BB17-04A10AC8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8F7BA-7055-4F65-9F63-DDFB6BED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85EBB-D922-4194-8CC1-B8C5A920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71D68-4388-4452-A49A-D42A1A3F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43DD2-7E7A-4F2B-9255-11748245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B52FB-A778-492F-AD61-725470BE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8552A-B013-4B95-9A24-A543D300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42C-B93E-47D4-BAA5-D5FC9133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09963-07D7-418F-A6DE-D45F2BC2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3AE0A-3C6E-4F1C-A746-213CC826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8AFF1-36B8-451A-B07F-14B7C731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F35C1-9278-44C5-B8D3-32A0F23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BE412-64AE-4112-B077-D6F6963C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E733C-CF74-4753-BB0F-CAC646B6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4A9B6-9F16-4629-BAE1-D1C82464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72CB1-E6B7-4582-959B-8CD63E09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6C1D2-1F01-4770-86C1-D3EAB6A2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CF930-18A6-4B39-8C42-ADAE0A9D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AE9A-AD5A-45D5-81D9-CB8C9024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9F8AD-81C0-4790-9F4C-2B84B472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99642-6F94-4DAB-AF3D-3203BCBF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85A7F-5AD7-488A-B839-7DE1D34F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A4390-F864-4BCE-B749-CA666D09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86E89-AEC0-4987-9703-078FE987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C1A45-7AAB-46E3-86B0-370AA9D4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C7E05-34D3-418B-BE39-FC41370D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D1E02-58F8-4A2E-84EF-0367EC14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A2656-5BD4-4A88-BFDC-632EE503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63B05-3767-431A-BA21-0D2C6977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414E-D78E-45E1-9ACB-7B4DD8BA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D559D-3AB3-4846-A846-4BC6FB42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C2615-D165-4C2C-AE8B-7768D3B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0AB02-7431-4825-A333-90C6C1F5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DA1AA-D751-4CC3-B943-CDF1A7F5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E73E2-D1B6-482E-81F8-AC5C5070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E0F6F-7FA4-4745-9324-8AE062F7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871C7-CB83-42D5-A0BD-E0C71B30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6C877-F1E8-41EE-92F6-FD76EF46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CAE3E-8362-4EFA-981E-A1F934E7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EB675-ED12-4AB1-87F1-978F7185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55B9-91C3-4A63-BBE6-1DD71E32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FB64D-CC6E-489E-BD34-86373B02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E9A11-0528-449F-970A-23F09CD6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EB247-394E-4B53-B9AE-6393F883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D7226-183A-4112-9A52-68DD71A1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E964A-4AF5-4B78-9D2A-FAAF457F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7EC17-20A3-49BB-A206-47BD36DC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E40C8-0758-4EB4-AD29-4CF9F619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B3ED6-9820-49F3-8B7F-7F85F97B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2FEAB-77A5-4664-9E5D-12165E26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B13CD-AD79-44D6-99F5-359ADC5C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7A78-1147-4802-BF0D-034FC564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C5BD7-1C1D-423D-A073-7C79DA90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A15DC-2266-4216-9777-AB67C880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37E1E-092B-435A-8CCC-DCF44AD8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6A80C-C1AE-43EA-8A60-71AED517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5E614-F98B-4EAC-8F95-15B83715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506C0-F364-45EC-8A7C-E4C38D26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6FAD8-573C-4944-BCEA-AD7E8645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D90D8-DB89-4F44-AC2E-4DD189BF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BF6A4-086A-455A-89D8-D062ADE6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B85CC-6808-4B24-A2D7-8FB4F964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8E02-143C-44F7-B7EF-69B37701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FC036-00BA-4B4D-9B61-29B7276D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DFA1E-52EB-426C-8C99-F76C170E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62C50-BE0D-4685-BCFB-5FA1F652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7C5A1E-811A-4D47-9D1A-B5B0181C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B251E-18D6-4391-860C-FC2B813A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0385B-4585-46FA-AF12-5D864589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38B477-1229-4CE9-A2EC-5885770C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51BDF-94AC-4C45-B662-14F3F563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610F6-8BF5-479C-9E64-71F8811F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CC5ED-FE42-4E4B-9072-9FCD74D1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921C-C59C-45E3-A1EE-2B08FE45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58E30-10D7-440D-AF24-9F77BD02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D1A6F-0385-4C6D-B5DD-594B5D7F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36759-6AA9-4387-933B-162B326A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89FC7-5FF8-401B-8424-D851B513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AA386-AD62-4FE8-AB67-90A80984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414DF8-5F06-465B-9B89-CB3119A7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3DA79-C531-4B76-809D-FADFE35A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D2A05B-FD1A-49A9-87C3-A6380ED5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DA079-8914-4CFF-81CD-6F705456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30117-C5B3-4DD7-900C-B09585D5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84A3-D2E1-49F2-813B-47B5F230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3CCB1F-4088-4850-BCB1-9794A9E9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3399F-63CF-45F7-9EB4-764B1D01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DD673-BE77-42ED-BD75-8C484E52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AD137D-B17F-49E8-B5E1-87C0E3F7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E0AB0-CAB6-45E8-ADFF-7EBA4FEA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1DDF3-1D1B-41C4-913F-EC5ED09B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BBF624-FF74-4916-827A-F56C192A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CE268-C8D9-4B66-B6FA-BF9DD6C8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105B7-9E8C-4F3B-AC44-D0BFF237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5C625F-A612-4B1D-B21B-1E5084A1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A70-B4B1-4114-8FB2-BB67E182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384C-8D6F-497E-9035-5B44CB41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50DFFB-2677-41B2-A0DE-74481AE9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C5033-33BE-4881-869B-3942409F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494BA5-4A9A-4EC9-88DB-2D182AB2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69808-8B5A-4653-A613-539B06D0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E2E81-0A1A-4955-AE43-2EA9E60F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F045D-778E-4102-9078-AD2710CF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AC6EF1-F9FC-4100-8AD7-C4C9ACB9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1F480-B817-4E1F-8316-32DE28BD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8FCE9-0AF3-4868-9E2E-4E170D19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8DEED-2F67-4B13-B799-9AD4976E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C8EF-DB58-4FF1-B911-619FA2C5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530FD6-E527-4372-9835-F0C9E8D4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C12A54-406B-4FB1-9385-A4105427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92288-F93B-47B6-B432-EACEDD2C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2CB653-97E5-4367-9EF2-7F057932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049E8-8EBB-43F9-B7C5-1380EB79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B888F5-723E-4057-BD34-3AE46DA3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B17512-8205-40FF-BF76-D289811C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C4D323-A896-4448-BA5C-521DCEB4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35CAFB-9638-4AFB-83F1-D30F0E30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E9A514-91C1-4D87-B407-22A33CA4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BFA0-F363-4E37-8B75-419B45A3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59138D-58C4-4F41-8DFB-105C8FF3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4C7A76-EB53-43D4-A1C1-AA9C5940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3F4F0-5EAA-4E3C-ABFE-E6708E92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8768CF-8C4E-44CE-87BD-1AC91130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2D4DA-AB14-49C9-AF23-CC4838C3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3291A6-D6FA-4984-913F-EDDE289F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5ACDED-3308-46D8-8EB6-B6B8CB1E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EA92D-2507-4B3B-ABB2-3639C48D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0178C6-7282-4D1B-BF1F-2F46CC03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AF18F3-0EBF-48AD-BD34-6D307CE9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18D8-9F74-4075-AE2A-16AD5B0B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33CAA0-D433-4563-9C3E-5ED881D0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AB1DF3-9A05-4C95-9284-4B5BA1FA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FC186-DA47-4F0D-B32E-40FBED6E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FA7EA9-03DB-4EF9-8AAA-145CB9A6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236956-95A9-45B2-B9C0-09A69B00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89CF86-B0B0-49C7-A577-72C342EC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5E7E2E-63D8-4FAE-876C-137B914C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E772E-8511-4D0C-AD27-7BE1932A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02590A-CC15-4F40-9AE7-8F6A9C99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01B2C3-D477-4B21-BF80-A0714054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03C7-69CC-4531-8B0E-7634BF2A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87E0E-31F9-4CB7-AF90-EF4D0581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F951A1-40AE-4C26-90BD-2AE329B4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55F1DE-13EA-4E93-AFD9-4174CD45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321FEF-FB7F-40B3-803B-1F9EF14E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A69F7C-8D11-4F91-9CA2-F159F07D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EB0FDA-C7CA-40FC-88D8-7EC14BB8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5A827-5DE3-41B2-94F5-244E6377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90DED4-CC61-412E-A698-5FD39E67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9FAC07-729D-487D-B7A1-2FE8EA76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D75C9C-0FD4-4BFE-9EDF-77713CE8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BFCD-0284-407D-8559-C1483560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4C2BDD-4379-49F1-85F3-DBDE0F57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2AE6D1-F1B7-422C-A0FC-A8C884D1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CDE2E3-EC7F-4025-AB21-DCFB9C51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FAD4A-EDE3-4F74-A6BE-81A540D5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E6C3-B910-41F1-B4A5-30E91A8A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1B38-A482-4E18-BC37-FB1392A3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ABF1-DC00-4E77-90B2-6547167D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5E8-232D-45B2-AEE1-F5E7337F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5E31-6490-4E9A-8B80-AC749801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97A7-048A-4ED5-AA10-D7F3A65B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B60E8-FE8C-4685-96D6-D7EE9AD6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0815-42B2-4700-BC21-ECD07B81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2BDE-BF2A-460D-BDF5-E749D956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4B83-7E1F-4460-9B2E-FCE2F8DB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F959-5B80-4923-983F-C365909F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BB439-92B7-4DED-8777-CF43577E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8756-6013-4DBC-9610-8D955369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0165-8413-4636-B452-682577B9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B84-5C23-4AC4-AB80-AAF58BAB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5BFAD-6FF0-44ED-B43B-D942D928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C89DF-8495-43BE-9E6B-F77AB4BD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9284-2539-493D-8F89-9B6904A3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58C1-BE4A-41FA-AF03-987E925F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E40FB-C293-44CA-A508-E0B0B047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71A5-EB1F-42EF-9412-DBD6CED1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9349D-7134-47D4-8517-8200B744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842A8-4823-4388-AC06-ABD2E26A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93DFA-A38C-4323-9E56-5885D005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D6B6F-8B52-4241-AE01-AF179A7A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AD0-6E72-47F0-A3B6-8B665D44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EE8BA-650A-4BBA-964F-7533C699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68BE3-0069-42EA-ADB8-FD2B7AA0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82AA6-12EE-4499-BC67-181F9135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07009-0B3E-4FBF-9AA7-44D9FBF7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32053-6137-4FA9-9EAA-4B79F8F9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95C5-7106-4036-B8A1-B5FCF432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991DA-D546-4BB0-AE09-05399E43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A9958-309D-4D38-9D59-366428C2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ADAC2-77BA-4A3E-9F37-E188C807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A7CE0-3ED3-4F2E-A5B6-8E3D7B63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8FB-48F5-404C-881B-10D8519F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3C86A-9801-41F6-A1C8-65593167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20E02-808C-49E0-9165-536678C4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73C2C-F8E8-464D-91ED-CA02F6F1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809E-40F2-462F-AE94-76FF2FF6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65919-FF1F-4382-A786-380811AC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81817-60F2-460E-A001-A421CCCD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5991F-57D0-4A26-AB57-7AE85B36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739A5-FC56-4A0A-BEA1-5C162138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58136-02DF-4F67-B2D8-0705B426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B3116-6572-4BB2-B578-A3BB1B91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61B-53C9-49EA-89E5-8F550D7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AD43E-1841-46F2-9078-06D14EF3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EBC18-CFE8-492F-95E8-830C0CD4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F645D-255B-4388-BC09-8642D873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4078B-3063-4019-A0B9-F2F737EF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94D93-5DC2-42E1-BB45-63F04D7E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490AF-BE25-46C1-A7BD-8FCD9628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FF7BC-C5CD-4954-849D-72216D76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38A50-ED74-40EB-A116-E51B998A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C8889-7953-4DBB-A457-3F073E99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28182-1D6C-42E9-9DF3-F7416596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D20-E62C-4802-9C1D-AE58F4A8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DB549-C548-428A-BD86-A3A619D1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254A0-EAD2-46C8-91D2-589DE1AB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F9C36-B61A-4513-AF73-FD5196EE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D66C-5F79-45C0-BDAF-2005EBFE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CCB81-F817-42AF-8505-A0EA22FB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82DCE-C2BA-4C23-A365-407CA044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DFD0B-2413-44FF-9BBF-4C223C10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D44A3-E520-4448-A8FC-4AC93E51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B0501-2B4B-473C-BDD2-6A836FC2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081B6-6029-4F56-A0A4-0E4623FF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9F4-44B1-4DA6-A4B2-F2871101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7A9EF-7B42-4932-B853-B35C7AA2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9D6C5-47FB-40C5-A128-B7109B8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F24D8-4820-4FBF-AAE1-5E723A0D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B4D2C-C056-4E14-985A-827DBBA6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EDD36-21A2-4522-8CD9-F1B322DC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7B999-EB78-46FD-B0F0-B8B637F8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A509B-9618-4C75-9100-25A904D4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DEAEF-2B54-4AC6-AADB-7745C42E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BFE18-253C-43F6-B629-4FE50A6B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02B7D-851F-48AB-BC3D-C4018600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4333-A460-45AB-8F16-1FA54A8055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7B03-2876-4E1B-A349-3B6F4B72F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A9A2-EF73-4503-B31E-D5EC712A66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C782-00D7-4D4A-A2DE-B585D72E81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BA5A-5960-4FE5-9069-589705EFD4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7B31-526D-4E2A-8917-5CA625E04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6DB9-2408-4469-8515-2C997AC1A2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B7B6-7170-4338-9959-9182B2C0C8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F1DF-FACF-4869-B4F0-A68C5223EC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1CD7-58A3-4406-AF63-D9D7537E6E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7EC6-9FAD-4E36-A65F-75F07E9997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3284-0244-4B51-BA4A-E206F73DAA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E53D-8A4B-4159-B4FA-14E99BFD8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F06B-F1CB-49F7-BD0B-E6717D7945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B6E6-AAC0-4E64-B3CF-7FE107B000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71FA-8CA0-4CDE-905B-8CD642721A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50E3-04F3-429C-9C41-BAFC93B377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DA62-71E9-439D-8C62-F7B63238B1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BE97-B891-442A-B47B-EA14056C57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E908-2719-43CA-8A50-4D8ECFB625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7CA4-7ACA-428D-A89F-F5BD032F0F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2D44-F10C-4B0D-95A7-5E212B5530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BC96-8E0F-4C00-A9AF-1781A9D743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3CAC-07BD-483A-A0F8-9BECC3FF67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9184-F74A-490A-8D1F-01992C8273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FF1E-568B-4D17-8A43-D522B90E65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E5DF-3F07-419B-BCBB-B464DE998A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297C-67C5-4586-A587-7F982981AD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ED32-852B-4AE3-8B56-51F10FE77D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74AA-A141-4C7B-82D4-C1CC3A0A14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6F19-EF2D-49A7-95E0-C9E9F1CF52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2F98-FB94-46B7-9F18-FC3C4D7656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7D00-C75C-43CA-B1EF-6DB3136FF5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E69E-685F-4801-8207-4E3D946E17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BEA9-F507-4A0F-B926-79EFEA56A9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FDC9-10B1-4E53-87F9-0E29B7D64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838B-2BF5-455C-93C2-FB7F24F386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49BE-6B51-4850-9EE1-F60618BA40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A2FF-2E16-40EE-B2B1-FA62DDEDEB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D2D6-BD3F-4439-A042-3DBFDE7316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68360" y="1654200"/>
            <a:ext cx="5743800" cy="12193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64483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814320" y="701640"/>
            <a:ext cx="7515360" cy="58960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484360" y="4437000"/>
            <a:ext cx="574920" cy="936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4067280" y="4437000"/>
            <a:ext cx="574560" cy="9367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724360" y="4437000"/>
            <a:ext cx="574920" cy="936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380360" y="4437000"/>
            <a:ext cx="574560" cy="9367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484360" y="5661000"/>
            <a:ext cx="574920" cy="9367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4067280" y="5661000"/>
            <a:ext cx="574560" cy="936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5724360" y="5661000"/>
            <a:ext cx="57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614520" y="649440"/>
            <a:ext cx="7914960" cy="6019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1547640" y="2205000"/>
            <a:ext cx="574920" cy="863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3132000" y="2162160"/>
            <a:ext cx="574920" cy="863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4572000" y="2162160"/>
            <a:ext cx="574560" cy="8636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6084720" y="2205000"/>
            <a:ext cx="574920" cy="8636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7596360" y="2162160"/>
            <a:ext cx="574560" cy="8636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1647720" y="3429000"/>
            <a:ext cx="574920" cy="8636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8"/>
          <a:stretch/>
        </p:blipFill>
        <p:spPr>
          <a:xfrm>
            <a:off x="3133800" y="3429000"/>
            <a:ext cx="574560" cy="863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9"/>
          <a:stretch/>
        </p:blipFill>
        <p:spPr>
          <a:xfrm>
            <a:off x="4718160" y="3471840"/>
            <a:ext cx="574560" cy="863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0"/>
          <a:stretch/>
        </p:blipFill>
        <p:spPr>
          <a:xfrm>
            <a:off x="4500720" y="5516640"/>
            <a:ext cx="165564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1"/>
          <a:stretch/>
        </p:blipFill>
        <p:spPr>
          <a:xfrm>
            <a:off x="855720" y="6064200"/>
            <a:ext cx="367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638280" y="797040"/>
            <a:ext cx="7867440" cy="58006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3995640" y="2305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3262320" y="1787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465768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357960" y="1787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6357960" y="2305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380988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3076560" y="3056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4471920" y="3041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6172200" y="3056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617220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2"/>
          <a:stretch/>
        </p:blipFill>
        <p:spPr>
          <a:xfrm>
            <a:off x="2987640" y="4508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3"/>
          <a:stretch/>
        </p:blipFill>
        <p:spPr>
          <a:xfrm>
            <a:off x="7093080" y="4292640"/>
            <a:ext cx="576000" cy="936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4"/>
          <a:stretch/>
        </p:blipFill>
        <p:spPr>
          <a:xfrm>
            <a:off x="2973240" y="5805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5"/>
          <a:stretch/>
        </p:blipFill>
        <p:spPr>
          <a:xfrm>
            <a:off x="7020000" y="5589720"/>
            <a:ext cx="57636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7352" descr=""/>
          <p:cNvPicPr/>
          <p:nvPr/>
        </p:nvPicPr>
        <p:blipFill>
          <a:blip r:embed="rId1"/>
          <a:stretch/>
        </p:blipFill>
        <p:spPr>
          <a:xfrm>
            <a:off x="595440" y="1781280"/>
            <a:ext cx="7953120" cy="32954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241128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6372360" y="20890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3995640" y="33289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6012000" y="3357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828720" y="3875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4427640" y="3860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3651120" y="443700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6324" descr=""/>
          <p:cNvPicPr/>
          <p:nvPr/>
        </p:nvPicPr>
        <p:blipFill>
          <a:blip r:embed="rId1"/>
          <a:stretch/>
        </p:blipFill>
        <p:spPr>
          <a:xfrm>
            <a:off x="1119240" y="647640"/>
            <a:ext cx="6905520" cy="55627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2124000" y="5200560"/>
            <a:ext cx="503280" cy="8208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3564000" y="5200560"/>
            <a:ext cx="503280" cy="8208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4946760" y="5186520"/>
            <a:ext cx="50328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55300" descr=""/>
          <p:cNvPicPr/>
          <p:nvPr/>
        </p:nvPicPr>
        <p:blipFill>
          <a:blip r:embed="rId1"/>
          <a:stretch/>
        </p:blipFill>
        <p:spPr>
          <a:xfrm>
            <a:off x="257040" y="728640"/>
            <a:ext cx="8629920" cy="57247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4248360" cy="8632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826920" y="3803760"/>
            <a:ext cx="4248360" cy="8636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900000" y="4941720"/>
            <a:ext cx="7920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54276" descr=""/>
          <p:cNvPicPr/>
          <p:nvPr/>
        </p:nvPicPr>
        <p:blipFill>
          <a:blip r:embed="rId1"/>
          <a:stretch/>
        </p:blipFill>
        <p:spPr>
          <a:xfrm>
            <a:off x="566640" y="1581120"/>
            <a:ext cx="8010720" cy="36957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"/>
          <a:stretch/>
        </p:blipFill>
        <p:spPr>
          <a:xfrm>
            <a:off x="1187280" y="2852640"/>
            <a:ext cx="4176720" cy="9367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3"/>
          <a:stretch/>
        </p:blipFill>
        <p:spPr>
          <a:xfrm>
            <a:off x="1258920" y="4076640"/>
            <a:ext cx="417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52231" descr=""/>
          <p:cNvPicPr/>
          <p:nvPr/>
        </p:nvPicPr>
        <p:blipFill>
          <a:blip r:embed="rId1"/>
          <a:stretch/>
        </p:blipFill>
        <p:spPr>
          <a:xfrm>
            <a:off x="290520" y="1033560"/>
            <a:ext cx="8562960" cy="47908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4535640" cy="8650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1116000" y="4941720"/>
            <a:ext cx="45356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28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